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5.wmf" ContentType="image/x-wmf"/>
  <Override PartName="/ppt/media/GLASS.WAV" ContentType="audio/x-wav"/>
  <Override PartName="/ppt/media/image14.wmf" ContentType="image/x-wmf"/>
  <Override PartName="/ppt/media/peopleooo.wav" ContentType="audio/x-wav"/>
  <Override PartName="/ppt/media/image13.wmf" ContentType="image/x-wmf"/>
  <Override PartName="/ppt/media/EXPLODE.WAV" ContentType="audio/x-wav"/>
  <Override PartName="/ppt/media/image11.wmf" ContentType="image/x-wmf"/>
  <Override PartName="/ppt/media/GUNSHOT.WAV" ContentType="audio/x-wav"/>
  <Override PartName="/ppt/media/highchime.wav" ContentType="audio/x-wav"/>
  <Override PartName="/ppt/media/image6.wmf" ContentType="image/x-wmf"/>
  <Override PartName="/ppt/media/image16.wmf" ContentType="image/x-wmf"/>
  <Override PartName="/ppt/media/WHOOSH.WAV" ContentType="audio/x-wav"/>
  <Override PartName="/ppt/media/DRIVEBY.WAV" ContentType="audio/x-wav"/>
  <Override PartName="/ppt/media/doorbl07.wav" ContentType="audio/x-wav"/>
  <Override PartName="/ppt/media/image4.wmf" ContentType="image/x-wmf"/>
  <Override PartName="/ppt/media/fastsnaps.wav" ContentType="audio/x-wav"/>
  <Override PartName="/ppt/media/children%20wow.wav" ContentType="audio/x-wav"/>
  <Override PartName="/ppt/media/image7.wmf" ContentType="image/x-wmf"/>
  <Override PartName="/ppt/media/caralarmoff.wav" ContentType="audio/x-wav"/>
  <Override PartName="/ppt/media/zipby102.wav" ContentType="audio/x-wav"/>
  <Override PartName="/ppt/media/lzipup01.wav" ContentType="audio/x-wav"/>
  <Override PartName="/ppt/media/image5.wmf" ContentType="image/x-wmf"/>
  <Override PartName="/ppt/media/child%20yikes.wav" ContentType="audio/x-wav"/>
  <Override PartName="/ppt/media/image3.wmf" ContentType="image/x-wmf"/>
  <Override PartName="/ppt/media/image2.wmf" ContentType="image/x-wmf"/>
  <Override PartName="/ppt/media/bserie06.wav" ContentType="audio/x-wav"/>
  <Override PartName="/ppt/media/image8.wmf" ContentType="image/x-wmf"/>
  <Override PartName="/ppt/media/image9.wmf" ContentType="image/x-wmf"/>
  <Override PartName="/ppt/media/shiphorn.wav" ContentType="audio/x-wav"/>
  <Override PartName="/ppt/media/image1.wmf" ContentType="image/x-wmf"/>
  <Override PartName="/ppt/media/zapbig0g.wav" ContentType="audio/x-wav"/>
  <Override PartName="/ppt/media/image12.wmf" ContentType="image/x-wmf"/>
  <Override PartName="/ppt/media/CHIMES.WAV" ContentType="audio/x-wav"/>
  <Override PartName="/ppt/media/jetflyby.wav" ContentType="audio/x-wav"/>
  <Override PartName="/ppt/media/image10.wmf" ContentType="image/x-wmf"/>
  <Override PartName="/ppt/media/childrenlaug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27F-38E2-4B29-A50F-B4A258DD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4E0-2F22-4C18-BEF5-D357EB1C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D2F-8795-4F62-9650-10345D16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16C-7F16-452F-9761-D105A796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624-B572-44D2-A56E-742C7287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C77-8964-45DB-981B-9B4F1AEF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E82-9991-40F7-9AE7-18590E2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AF1-227B-42D4-9B39-47D1688D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ECD-491E-4246-899F-5EDBE8B4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757-D2D5-48D8-B779-8D7581D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3A4-D9E6-4626-9F3B-3F8CF3D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859-FA3C-45CA-BBE6-D07BD33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C5F-0F7A-4C20-A1D1-AFB710D9B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audio" Target="../media/WHOOSH.WAV"/><Relationship Id="rId18" Type="http://schemas.openxmlformats.org/officeDocument/2006/relationships/audio" Target="../media/GUNSHOT.WAV"/><Relationship Id="rId19" Type="http://schemas.openxmlformats.org/officeDocument/2006/relationships/audio" Target="../media/children%20wow.wav"/><Relationship Id="rId20" Type="http://schemas.openxmlformats.org/officeDocument/2006/relationships/audio" Target="../media/highchime.wav"/><Relationship Id="rId21" Type="http://schemas.openxmlformats.org/officeDocument/2006/relationships/audio" Target="../media/child%20yikes.wav"/><Relationship Id="rId22" Type="http://schemas.openxmlformats.org/officeDocument/2006/relationships/audio" Target="../media/child%20yikes.wav"/><Relationship Id="rId23" Type="http://schemas.openxmlformats.org/officeDocument/2006/relationships/audio" Target="../media/highchime.wav"/><Relationship Id="rId24" Type="http://schemas.openxmlformats.org/officeDocument/2006/relationships/audio" Target="../media/bserie06.wav"/><Relationship Id="rId25" Type="http://schemas.openxmlformats.org/officeDocument/2006/relationships/audio" Target="../media/bserie06.wav"/><Relationship Id="rId26" Type="http://schemas.openxmlformats.org/officeDocument/2006/relationships/audio" Target="../media/bserie06.wav"/><Relationship Id="rId27" Type="http://schemas.openxmlformats.org/officeDocument/2006/relationships/audio" Target="../media/highchime.wav"/><Relationship Id="rId28" Type="http://schemas.openxmlformats.org/officeDocument/2006/relationships/audio" Target="../media/bserie06.wav"/><Relationship Id="rId29" Type="http://schemas.openxmlformats.org/officeDocument/2006/relationships/audio" Target="../media/bserie06.wav"/><Relationship Id="rId30" Type="http://schemas.openxmlformats.org/officeDocument/2006/relationships/audio" Target="../media/bserie06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audio" Target="../media/EXPLODE.WAV"/><Relationship Id="rId6" Type="http://schemas.openxmlformats.org/officeDocument/2006/relationships/audio" Target="../media/highchime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children%20wow.wav"/><Relationship Id="rId10" Type="http://schemas.openxmlformats.org/officeDocument/2006/relationships/audio" Target="../media/highchime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ldren%20wow.wav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audio" Target="../media/jetflyby.wav"/><Relationship Id="rId8" Type="http://schemas.openxmlformats.org/officeDocument/2006/relationships/audio" Target="../media/shiphorn.wav"/><Relationship Id="rId9" Type="http://schemas.openxmlformats.org/officeDocument/2006/relationships/audio" Target="../media/bserie06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bserie06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bserie06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ldren%20wow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audio" Target="../media/childrenlaugh.wav"/><Relationship Id="rId17" Type="http://schemas.openxmlformats.org/officeDocument/2006/relationships/audio" Target="../media/lzipup01.wav"/><Relationship Id="rId18" Type="http://schemas.openxmlformats.org/officeDocument/2006/relationships/audio" Target="../media/DRIVEBY.WAV"/><Relationship Id="rId19" Type="http://schemas.openxmlformats.org/officeDocument/2006/relationships/audio" Target="../media/DRIVEBY.WAV"/><Relationship Id="rId20" Type="http://schemas.openxmlformats.org/officeDocument/2006/relationships/audio" Target="../media/doorbl07.wav"/><Relationship Id="rId21" Type="http://schemas.openxmlformats.org/officeDocument/2006/relationships/audio" Target="../media/zapbig0g.wav"/><Relationship Id="rId22" Type="http://schemas.openxmlformats.org/officeDocument/2006/relationships/audio" Target="../media/fastsnaps.wav"/><Relationship Id="rId23" Type="http://schemas.openxmlformats.org/officeDocument/2006/relationships/audio" Target="../media/fastsnaps.wav"/><Relationship Id="rId24" Type="http://schemas.openxmlformats.org/officeDocument/2006/relationships/audio" Target="../media/zipby102.wav"/><Relationship Id="rId25" Type="http://schemas.openxmlformats.org/officeDocument/2006/relationships/audio" Target="../media/zipby102.wav"/><Relationship Id="rId26" Type="http://schemas.openxmlformats.org/officeDocument/2006/relationships/audio" Target="../media/peopleooo.wav"/><Relationship Id="rId27" Type="http://schemas.openxmlformats.org/officeDocument/2006/relationships/audio" Target="../media/peopleooo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audio" Target="../media/WHOOSH.WAV"/><Relationship Id="rId8" Type="http://schemas.openxmlformats.org/officeDocument/2006/relationships/audio" Target="../media/caralarmoff.wav"/><Relationship Id="rId9" Type="http://schemas.openxmlformats.org/officeDocument/2006/relationships/audio" Target="../media/jetflyby.wav"/><Relationship Id="rId10" Type="http://schemas.openxmlformats.org/officeDocument/2006/relationships/audio" Target="../media/shiphorn.wav"/><Relationship Id="rId11" Type="http://schemas.openxmlformats.org/officeDocument/2006/relationships/audio" Target="../media/zapbig0g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zapbig0g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zapbig0g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ldren%20wow.wav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bserie06.wav"/><Relationship Id="rId17" Type="http://schemas.openxmlformats.org/officeDocument/2006/relationships/audio" Target="../media/zapbig0g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zapbig0g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zapbig0g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ldren%20wow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highchime.wav"/><Relationship Id="rId13" Type="http://schemas.openxmlformats.org/officeDocument/2006/relationships/audio" Target="../media/highchime.wav"/><Relationship Id="rId14" Type="http://schemas.openxmlformats.org/officeDocument/2006/relationships/audio" Target="../media/highchime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GLAS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GLAS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GLASS.WAV"/><Relationship Id="rId25" Type="http://schemas.openxmlformats.org/officeDocument/2006/relationships/audio" Target="../media/CHIMES.WAV"/><Relationship Id="rId26" Type="http://schemas.openxmlformats.org/officeDocument/2006/relationships/audio" Target="../media/children%20wow.wav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highchime.wav"/><Relationship Id="rId8" Type="http://schemas.openxmlformats.org/officeDocument/2006/relationships/audio" Target="../media/highchime.wav"/><Relationship Id="rId9" Type="http://schemas.openxmlformats.org/officeDocument/2006/relationships/audio" Target="../media/highchime.wav"/><Relationship Id="rId10" Type="http://schemas.openxmlformats.org/officeDocument/2006/relationships/audio" Target="../media/highchime.wav"/><Relationship Id="rId11" Type="http://schemas.openxmlformats.org/officeDocument/2006/relationships/audio" Target="../media/highchime.wav"/><Relationship Id="rId12" Type="http://schemas.openxmlformats.org/officeDocument/2006/relationships/audio" Target="../media/doorbl07.wav"/><Relationship Id="rId13" Type="http://schemas.openxmlformats.org/officeDocument/2006/relationships/audio" Target="../media/zapbig0g.wav"/><Relationship Id="rId14" Type="http://schemas.openxmlformats.org/officeDocument/2006/relationships/audio" Target="../media/fastsnaps.wav"/><Relationship Id="rId15" Type="http://schemas.openxmlformats.org/officeDocument/2006/relationships/audio" Target="../media/fastsnaps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600200"/>
            <a:ext cx="7925040" cy="2971800"/>
            <a:chOff x="609480" y="1600200"/>
            <a:chExt cx="7925040" cy="2971800"/>
          </a:xfrm>
        </p:grpSpPr>
        <p:grpSp>
          <p:nvGrpSpPr>
            <p:cNvPr id="42" name=""/>
            <p:cNvGrpSpPr/>
            <p:nvPr/>
          </p:nvGrpSpPr>
          <p:grpSpPr>
            <a:xfrm>
              <a:off x="609480" y="1676520"/>
              <a:ext cx="2361960" cy="2819160"/>
              <a:chOff x="609480" y="1676520"/>
              <a:chExt cx="2361960" cy="2819160"/>
            </a:xfrm>
          </p:grpSpPr>
          <p:sp>
            <p:nvSpPr>
              <p:cNvPr id="43" name=""/>
              <p:cNvSpPr/>
              <p:nvPr/>
            </p:nvSpPr>
            <p:spPr>
              <a:xfrm>
                <a:off x="609480" y="3733920"/>
                <a:ext cx="2361960" cy="761760"/>
              </a:xfrm>
              <a:custGeom>
                <a:avLst/>
                <a:gdLst/>
                <a:ahLst/>
                <a:rect l="l" t="t" r="r" b="b"/>
                <a:pathLst>
                  <a:path w="1488" h="624">
                    <a:moveTo>
                      <a:pt x="0" y="624"/>
                    </a:moveTo>
                    <a:lnTo>
                      <a:pt x="624" y="0"/>
                    </a:lnTo>
                    <a:lnTo>
                      <a:pt x="1488" y="0"/>
                    </a:lnTo>
                    <a:lnTo>
                      <a:pt x="864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cc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480" y="1676520"/>
                <a:ext cx="1371600" cy="2819160"/>
              </a:xfrm>
              <a:custGeom>
                <a:avLst/>
                <a:gdLst/>
                <a:ahLst/>
                <a:rect l="l" t="t" r="r" b="b"/>
                <a:pathLst>
                  <a:path w="912" h="1440">
                    <a:moveTo>
                      <a:pt x="0" y="1440"/>
                    </a:moveTo>
                    <a:lnTo>
                      <a:pt x="912" y="1440"/>
                    </a:lnTo>
                    <a:lnTo>
                      <a:pt x="672" y="0"/>
                    </a:lnTo>
                    <a:lnTo>
                      <a:pt x="0" y="1440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599840" y="1676520"/>
                <a:ext cx="1371600" cy="2057400"/>
              </a:xfrm>
              <a:custGeom>
                <a:avLst/>
                <a:gdLst/>
                <a:ahLst/>
                <a:rect l="l" t="t" r="r" b="b"/>
                <a:pathLst>
                  <a:path w="864" h="1296">
                    <a:moveTo>
                      <a:pt x="0" y="1296"/>
                    </a:moveTo>
                    <a:lnTo>
                      <a:pt x="864" y="1296"/>
                    </a:lnTo>
                    <a:lnTo>
                      <a:pt x="0" y="0"/>
                    </a:lnTo>
                    <a:lnTo>
                      <a:pt x="0" y="1296"/>
                    </a:lnTo>
                    <a:close/>
                  </a:path>
                </a:pathLst>
              </a:cu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6324480" y="1600200"/>
              <a:ext cx="2210040" cy="2971800"/>
              <a:chOff x="6324480" y="1600200"/>
              <a:chExt cx="2210040" cy="2971800"/>
            </a:xfrm>
          </p:grpSpPr>
          <p:sp>
            <p:nvSpPr>
              <p:cNvPr id="47" name=""/>
              <p:cNvSpPr/>
              <p:nvPr/>
            </p:nvSpPr>
            <p:spPr>
              <a:xfrm>
                <a:off x="6324480" y="1600200"/>
                <a:ext cx="2210040" cy="2514600"/>
              </a:xfrm>
              <a:prstGeom prst="triangle">
                <a:avLst>
                  <a:gd name="adj" fmla="val 50000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324480" y="3657600"/>
                <a:ext cx="2210040" cy="914400"/>
              </a:xfrm>
              <a:prstGeom prst="ellipse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" name=""/>
          <p:cNvGrpSpPr/>
          <p:nvPr/>
        </p:nvGrpSpPr>
        <p:grpSpPr>
          <a:xfrm>
            <a:off x="609480" y="2057400"/>
            <a:ext cx="7925040" cy="2514600"/>
            <a:chOff x="609480" y="2057400"/>
            <a:chExt cx="7925040" cy="2514600"/>
          </a:xfrm>
        </p:grpSpPr>
        <p:graphicFrame>
          <p:nvGraphicFramePr>
            <p:cNvPr id="50" name=""/>
            <p:cNvGraphicFramePr/>
            <p:nvPr/>
          </p:nvGraphicFramePr>
          <p:xfrm>
            <a:off x="2514600" y="2057400"/>
            <a:ext cx="2803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057400"/>
                      <a:ext cx="2803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09480" y="3733920"/>
              <a:ext cx="2362320" cy="761760"/>
            </a:xfrm>
            <a:custGeom>
              <a:avLst/>
              <a:gdLst/>
              <a:ahLst/>
              <a:rect l="l" t="t" r="r" b="b"/>
              <a:pathLst>
                <a:path w="1488" h="480">
                  <a:moveTo>
                    <a:pt x="0" y="480"/>
                  </a:moveTo>
                  <a:lnTo>
                    <a:pt x="624" y="0"/>
                  </a:lnTo>
                  <a:lnTo>
                    <a:pt x="1488" y="0"/>
                  </a:lnTo>
                  <a:lnTo>
                    <a:pt x="864" y="48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4480" y="3657600"/>
              <a:ext cx="2210040" cy="914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93240" y="1645560"/>
            <a:ext cx="537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 or Con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00200" y="1638360"/>
            <a:ext cx="6858000" cy="2400120"/>
            <a:chOff x="1600200" y="1638360"/>
            <a:chExt cx="6858000" cy="2400120"/>
          </a:xfrm>
        </p:grpSpPr>
        <p:sp>
          <p:nvSpPr>
            <p:cNvPr id="58" name=""/>
            <p:cNvSpPr/>
            <p:nvPr/>
          </p:nvSpPr>
          <p:spPr>
            <a:xfrm>
              <a:off x="1600200" y="3657600"/>
              <a:ext cx="304920" cy="380880"/>
            </a:xfrm>
            <a:prstGeom prst="rect">
              <a:avLst/>
            </a:pr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5257800" y="2286000"/>
            <a:ext cx="685800" cy="59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286000"/>
                      <a:ext cx="68580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1600200" y="1752480"/>
              <a:ext cx="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4038480"/>
              <a:ext cx="30456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29680" y="1638360"/>
              <a:ext cx="1440" cy="2362320"/>
            </a:xfrm>
            <a:custGeom>
              <a:avLst/>
              <a:gdLst/>
              <a:ahLst/>
              <a:rect l="l" t="t" r="r" b="b"/>
              <a:pathLst>
                <a:path w="1" h="1488">
                  <a:moveTo>
                    <a:pt x="0" y="0"/>
                  </a:moveTo>
                  <a:lnTo>
                    <a:pt x="0" y="1488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7480" y="3657600"/>
              <a:ext cx="228600" cy="3049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467480" y="3962520"/>
              <a:ext cx="9907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00" y="4494960"/>
            <a:ext cx="366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Pyrami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4952880"/>
          <a:ext cx="433440" cy="12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9528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066680" y="5181480"/>
          <a:ext cx="1020960" cy="8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5181480"/>
                    <a:ext cx="10209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905120" y="5181480"/>
          <a:ext cx="598320" cy="77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5181480"/>
                    <a:ext cx="5983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791680" y="4647600"/>
            <a:ext cx="30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400800" y="5181480"/>
          <a:ext cx="43344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00800" y="5181480"/>
                    <a:ext cx="4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772400" y="5334120"/>
          <a:ext cx="598320" cy="77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772400" y="5334120"/>
                    <a:ext cx="5983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6781680" y="3809160"/>
            <a:ext cx="1320840" cy="2329560"/>
            <a:chOff x="6781680" y="3809160"/>
            <a:chExt cx="1320840" cy="2329560"/>
          </a:xfrm>
        </p:grpSpPr>
        <p:graphicFrame>
          <p:nvGraphicFramePr>
            <p:cNvPr id="79" name=""/>
            <p:cNvGraphicFramePr/>
            <p:nvPr/>
          </p:nvGraphicFramePr>
          <p:xfrm>
            <a:off x="6781680" y="5257800"/>
            <a:ext cx="1219320" cy="880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81680" y="5257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"/>
            <p:cNvSpPr/>
            <p:nvPr/>
          </p:nvSpPr>
          <p:spPr>
            <a:xfrm>
              <a:off x="7773840" y="380916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ld%20yik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309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4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829560" y="2503440"/>
                <a:ext cx="34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159080" y="3406680"/>
                <a:ext cx="34164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881440" y="5175360"/>
                <a:ext cx="218916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92600" y="5635800"/>
                <a:ext cx="10893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711840" y="5576760"/>
                <a:ext cx="1038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y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15840" y="2410560"/>
            <a:ext cx="96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329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653000" y="2152800"/>
                <a:ext cx="355608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34" name=""/>
          <p:cNvGraphicFramePr/>
          <p:nvPr/>
        </p:nvGraphicFramePr>
        <p:xfrm>
          <a:off x="5229360" y="25034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29360" y="25034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558120" y="2527200"/>
                <a:ext cx="1328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691080" y="3406680"/>
                <a:ext cx="43542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589120" y="5175360"/>
                <a:ext cx="25686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433840" y="5613480"/>
                <a:ext cx="1406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827760" y="5587920"/>
                <a:ext cx="86544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01720" y="2410560"/>
            <a:ext cx="11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5 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19320" y="2514600"/>
            <a:ext cx="3276360" cy="3276720"/>
            <a:chOff x="1219320" y="2514600"/>
            <a:chExt cx="3276360" cy="3276720"/>
          </a:xfrm>
        </p:grpSpPr>
        <p:sp>
          <p:nvSpPr>
            <p:cNvPr id="85" name=""/>
            <p:cNvSpPr/>
            <p:nvPr/>
          </p:nvSpPr>
          <p:spPr>
            <a:xfrm>
              <a:off x="1219320" y="2514600"/>
              <a:ext cx="3276360" cy="32767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19320" y="3809880"/>
              <a:ext cx="3276360" cy="762120"/>
            </a:xfrm>
            <a:prstGeom prst="ellipse">
              <a:avLst/>
            </a:prstGeom>
            <a:solidFill>
              <a:srgbClr val="9999ff">
                <a:alpha val="50000"/>
              </a:srgbClr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91120"/>
              <a:ext cx="16761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77880" y="3687120"/>
              <a:ext cx="328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885920" y="2361600"/>
            <a:ext cx="338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 of a Sp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622840" y="2895480"/>
          <a:ext cx="466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2840" y="2895480"/>
                    <a:ext cx="466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019920" y="2971800"/>
          <a:ext cx="12189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971800"/>
                    <a:ext cx="12189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85800" y="1523880"/>
            <a:ext cx="3048120" cy="3048120"/>
            <a:chOff x="685800" y="1523880"/>
            <a:chExt cx="3048120" cy="3048120"/>
          </a:xfrm>
        </p:grpSpPr>
        <p:sp>
          <p:nvSpPr>
            <p:cNvPr id="97" name=""/>
            <p:cNvSpPr/>
            <p:nvPr/>
          </p:nvSpPr>
          <p:spPr>
            <a:xfrm>
              <a:off x="685800" y="1523880"/>
              <a:ext cx="3048120" cy="2590920"/>
            </a:xfrm>
            <a:prstGeom prst="triangle">
              <a:avLst>
                <a:gd name="adj" fmla="val 500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800" y="3733920"/>
              <a:ext cx="3048120" cy="838080"/>
            </a:xfrm>
            <a:prstGeom prst="ellipse">
              <a:avLst/>
            </a:prstGeom>
            <a:solidFill>
              <a:srgbClr val="33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10040" y="4114800"/>
              <a:ext cx="1523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10040" y="1600200"/>
              <a:ext cx="0" cy="251460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45120" y="36572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cc"/>
                  </a:solidFill>
                  <a:latin typeface="Times New Roman"/>
                </a:rPr>
                <a:t>2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4080" y="2742840"/>
              <a:ext cx="851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 c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25560" y="185076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62268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3962520" y="1523880"/>
            <a:ext cx="3112920" cy="1219320"/>
            <a:chOff x="3962520" y="1523880"/>
            <a:chExt cx="3112920" cy="1219320"/>
          </a:xfrm>
        </p:grpSpPr>
        <p:grpSp>
          <p:nvGrpSpPr>
            <p:cNvPr id="106" name=""/>
            <p:cNvGrpSpPr/>
            <p:nvPr/>
          </p:nvGrpSpPr>
          <p:grpSpPr>
            <a:xfrm>
              <a:off x="5105520" y="1523880"/>
              <a:ext cx="1969920" cy="1219320"/>
              <a:chOff x="5105520" y="1523880"/>
              <a:chExt cx="1969920" cy="1219320"/>
            </a:xfrm>
          </p:grpSpPr>
          <p:graphicFrame>
            <p:nvGraphicFramePr>
              <p:cNvPr id="107" name=""/>
              <p:cNvGraphicFramePr/>
              <p:nvPr/>
            </p:nvGraphicFramePr>
            <p:xfrm>
              <a:off x="510552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0552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9" name=""/>
              <p:cNvGraphicFramePr/>
              <p:nvPr/>
            </p:nvGraphicFramePr>
            <p:xfrm>
              <a:off x="647712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7712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1" name=""/>
              <p:cNvGraphicFramePr/>
              <p:nvPr/>
            </p:nvGraphicFramePr>
            <p:xfrm>
              <a:off x="548640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13" name=""/>
            <p:cNvGraphicFramePr/>
            <p:nvPr/>
          </p:nvGraphicFramePr>
          <p:xfrm>
            <a:off x="396252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"/>
          <p:cNvSpPr/>
          <p:nvPr/>
        </p:nvSpPr>
        <p:spPr>
          <a:xfrm>
            <a:off x="541044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908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84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09880" y="4114800"/>
                <a:ext cx="41436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5627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1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33520" y="5276880"/>
                <a:ext cx="2966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21004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2.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0.9 c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038480" y="411480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809880" y="251460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28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680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84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504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7600" y="57142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70204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6 m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47840" y="1981080"/>
            <a:ext cx="2523960" cy="2645640"/>
            <a:chOff x="447840" y="1981080"/>
            <a:chExt cx="2523960" cy="2645640"/>
          </a:xfrm>
        </p:grpSpPr>
        <p:sp>
          <p:nvSpPr>
            <p:cNvPr id="136" name=""/>
            <p:cNvSpPr/>
            <p:nvPr/>
          </p:nvSpPr>
          <p:spPr>
            <a:xfrm>
              <a:off x="609480" y="358128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371600" y="39621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9480" y="304776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304812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304812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198108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71600" y="198108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7920" y="198108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47920" y="198108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350532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350532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7840" y="413676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411444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236196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2 m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V="1" rot="10800000">
              <a:off x="1523160" y="258984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1680" y="207936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38480" y="1447920"/>
            <a:ext cx="2884680" cy="1218960"/>
            <a:chOff x="4038480" y="1447920"/>
            <a:chExt cx="2884680" cy="1218960"/>
          </a:xfrm>
        </p:grpSpPr>
        <p:graphicFrame>
          <p:nvGraphicFramePr>
            <p:cNvPr id="153" name=""/>
            <p:cNvGraphicFramePr/>
            <p:nvPr/>
          </p:nvGraphicFramePr>
          <p:xfrm>
            <a:off x="4038480" y="144792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8480" y="144792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5486400" y="160020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60020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6324480" y="160020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160020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9" name=""/>
          <p:cNvSpPr/>
          <p:nvPr/>
        </p:nvSpPr>
        <p:spPr>
          <a:xfrm>
            <a:off x="160128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60280" y="5634000"/>
                <a:ext cx="3427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676520" y="22860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ccffcc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Notes Over 10 - 9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ccffcc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olume: Pyramids, Cones and Sphe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1371600"/>
            <a:ext cx="7786440" cy="2543040"/>
            <a:chOff x="304920" y="1371600"/>
            <a:chExt cx="7786440" cy="25430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6019920" y="1447920"/>
              <a:ext cx="207144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4920" y="1371600"/>
              <a:ext cx="57150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. You build a snowman with spheres of snow. How much snow do you need to make the bottom sphere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717880" y="1185120"/>
            <a:ext cx="2585520" cy="2624760"/>
            <a:chOff x="5717880" y="1185120"/>
            <a:chExt cx="2585520" cy="2624760"/>
          </a:xfrm>
        </p:grpSpPr>
        <p:sp>
          <p:nvSpPr>
            <p:cNvPr id="167" name=""/>
            <p:cNvSpPr/>
            <p:nvPr/>
          </p:nvSpPr>
          <p:spPr>
            <a:xfrm>
              <a:off x="6400800" y="2514600"/>
              <a:ext cx="1295280" cy="129528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8100000">
              <a:off x="6096240" y="156348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053120" y="2513160"/>
            <a:ext cx="1800" cy="1296720"/>
          </a:xfrm>
          <a:custGeom>
            <a:avLst/>
            <a:gdLst/>
            <a:ahLst/>
            <a:rect l="l" t="t" r="r" b="b"/>
            <a:pathLst>
              <a:path w="1" h="817">
                <a:moveTo>
                  <a:pt x="0" y="0"/>
                </a:moveTo>
                <a:lnTo>
                  <a:pt x="0" y="8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086600" y="2971440"/>
            <a:ext cx="1716480" cy="642240"/>
            <a:chOff x="7086600" y="2971440"/>
            <a:chExt cx="1716480" cy="642240"/>
          </a:xfrm>
        </p:grpSpPr>
        <p:sp>
          <p:nvSpPr>
            <p:cNvPr id="171" name=""/>
            <p:cNvSpPr/>
            <p:nvPr/>
          </p:nvSpPr>
          <p:spPr>
            <a:xfrm>
              <a:off x="8154360" y="3123720"/>
              <a:ext cx="648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 f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/>
            <p:nvPr/>
          </p:nvCxnSpPr>
          <p:spPr>
            <a:xfrm flipH="1" rot="16200000">
              <a:off x="7409520" y="2648160"/>
              <a:ext cx="454680" cy="1100880"/>
            </a:xfrm>
            <a:prstGeom prst="curvedConnector2">
              <a:avLst/>
            </a:prstGeom>
            <a:ln w="38160">
              <a:solidFill>
                <a:srgbClr val="663300"/>
              </a:solidFill>
              <a:miter/>
              <a:tailEnd len="med" type="triangle" w="med"/>
            </a:ln>
          </p:spPr>
        </p:cxnSp>
      </p:grpSp>
      <p:grpSp>
        <p:nvGrpSpPr>
          <p:cNvPr id="173" name=""/>
          <p:cNvGrpSpPr/>
          <p:nvPr/>
        </p:nvGrpSpPr>
        <p:grpSpPr>
          <a:xfrm>
            <a:off x="2803680" y="2895480"/>
            <a:ext cx="1616040" cy="1219320"/>
            <a:chOff x="2803680" y="2895480"/>
            <a:chExt cx="1616040" cy="1219320"/>
          </a:xfrm>
        </p:grpSpPr>
        <p:graphicFrame>
          <p:nvGraphicFramePr>
            <p:cNvPr id="174" name=""/>
            <p:cNvGraphicFramePr/>
            <p:nvPr/>
          </p:nvGraphicFramePr>
          <p:xfrm>
            <a:off x="2803680" y="2895480"/>
            <a:ext cx="466560" cy="121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03680" y="289548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3200400" y="2971800"/>
            <a:ext cx="1219320" cy="88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297180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84320" y="373392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9" name=""/>
          <p:cNvGraphicFramePr/>
          <p:nvPr/>
        </p:nvGraphicFramePr>
        <p:xfrm>
          <a:off x="2590920" y="4114800"/>
          <a:ext cx="1218960" cy="65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411480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962520" y="4114800"/>
          <a:ext cx="547560" cy="65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4114800"/>
                    <a:ext cx="5475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952880" y="3657600"/>
                <a:ext cx="349416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1998720" y="5145120"/>
          <a:ext cx="2543040" cy="1712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98720" y="5145120"/>
                    <a:ext cx="25430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586400" y="5638680"/>
          <a:ext cx="1766880" cy="658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6400" y="5638680"/>
                    <a:ext cx="1766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477120" y="5486400"/>
          <a:ext cx="88092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477120" y="5486400"/>
                    <a:ext cx="880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ldren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45960" y="5481720"/>
                <a:ext cx="34275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124160" y="3962520"/>
                <a:ext cx="3837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95560" y="2362320"/>
                <a:ext cx="47037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79852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92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27480" y="28188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75000" y="43426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20720" y="43426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53280" y="556200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9600" y="554976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16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33520" y="1828800"/>
            <a:ext cx="2523960" cy="2645640"/>
            <a:chOff x="533520" y="1828800"/>
            <a:chExt cx="2523960" cy="2645640"/>
          </a:xfrm>
        </p:grpSpPr>
        <p:sp>
          <p:nvSpPr>
            <p:cNvPr id="203" name=""/>
            <p:cNvSpPr/>
            <p:nvPr/>
          </p:nvSpPr>
          <p:spPr>
            <a:xfrm>
              <a:off x="695160" y="342900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57280" y="38098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95160" y="2895480"/>
              <a:ext cx="9144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9560" y="2895840"/>
              <a:ext cx="7621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5160" y="2895840"/>
              <a:ext cx="1676520" cy="1447560"/>
            </a:xfrm>
            <a:custGeom>
              <a:avLst/>
              <a:gdLst/>
              <a:ahLst/>
              <a:rect l="l" t="t" r="r" b="b"/>
              <a:pathLst>
                <a:path w="1056" h="912">
                  <a:moveTo>
                    <a:pt x="0" y="336"/>
                  </a:moveTo>
                  <a:lnTo>
                    <a:pt x="480" y="912"/>
                  </a:lnTo>
                  <a:lnTo>
                    <a:pt x="1056" y="576"/>
                  </a:lnTo>
                  <a:lnTo>
                    <a:pt x="576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cc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5160" y="1828800"/>
              <a:ext cx="838440" cy="2514600"/>
            </a:xfrm>
            <a:custGeom>
              <a:avLst/>
              <a:gdLst/>
              <a:ahLst/>
              <a:rect l="l" t="t" r="r" b="b"/>
              <a:pathLst>
                <a:path w="528" h="1584">
                  <a:moveTo>
                    <a:pt x="0" y="1008"/>
                  </a:moveTo>
                  <a:lnTo>
                    <a:pt x="480" y="1584"/>
                  </a:lnTo>
                  <a:lnTo>
                    <a:pt x="528" y="0"/>
                  </a:lnTo>
                  <a:lnTo>
                    <a:pt x="0" y="100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7280" y="1828800"/>
              <a:ext cx="914400" cy="2514600"/>
            </a:xfrm>
            <a:custGeom>
              <a:avLst/>
              <a:gdLst/>
              <a:ahLst/>
              <a:rect l="l" t="t" r="r" b="b"/>
              <a:pathLst>
                <a:path w="576" h="1584">
                  <a:moveTo>
                    <a:pt x="0" y="1584"/>
                  </a:moveTo>
                  <a:lnTo>
                    <a:pt x="576" y="1248"/>
                  </a:lnTo>
                  <a:lnTo>
                    <a:pt x="48" y="0"/>
                  </a:lnTo>
                  <a:lnTo>
                    <a:pt x="0" y="1584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33600" y="1828800"/>
              <a:ext cx="838080" cy="1981440"/>
            </a:xfrm>
            <a:custGeom>
              <a:avLst/>
              <a:gdLst/>
              <a:ahLst/>
              <a:rect l="l" t="t" r="r" b="b"/>
              <a:pathLst>
                <a:path w="528" h="1248">
                  <a:moveTo>
                    <a:pt x="528" y="1248"/>
                  </a:moveTo>
                  <a:lnTo>
                    <a:pt x="48" y="672"/>
                  </a:lnTo>
                  <a:lnTo>
                    <a:pt x="0" y="0"/>
                  </a:lnTo>
                  <a:lnTo>
                    <a:pt x="528" y="1248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33600" y="1828800"/>
              <a:ext cx="0" cy="175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33600" y="3353040"/>
              <a:ext cx="1522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5880" y="3353040"/>
              <a:ext cx="0" cy="228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520" y="3984480"/>
              <a:ext cx="84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8160" y="3962160"/>
              <a:ext cx="84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9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66760" y="2209680"/>
              <a:ext cx="990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8 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/>
            <p:nvPr/>
          </p:nvCxnSpPr>
          <p:spPr>
            <a:xfrm flipV="1" rot="10800000">
              <a:off x="1608840" y="2437560"/>
              <a:ext cx="457920" cy="346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747360" y="1927080"/>
              <a:ext cx="429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124160" y="1295280"/>
            <a:ext cx="2884680" cy="1218960"/>
            <a:chOff x="4124160" y="1295280"/>
            <a:chExt cx="2884680" cy="1218960"/>
          </a:xfrm>
        </p:grpSpPr>
        <p:graphicFrame>
          <p:nvGraphicFramePr>
            <p:cNvPr id="220" name=""/>
            <p:cNvGraphicFramePr/>
            <p:nvPr/>
          </p:nvGraphicFramePr>
          <p:xfrm>
            <a:off x="4124160" y="1295280"/>
            <a:ext cx="1492200" cy="121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4160" y="1295280"/>
                      <a:ext cx="1492200" cy="12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5572080" y="1447560"/>
            <a:ext cx="1020600" cy="83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72080" y="1447560"/>
                      <a:ext cx="1020600" cy="8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6410160" y="1447560"/>
            <a:ext cx="598680" cy="77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0160" y="1447560"/>
                      <a:ext cx="598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"/>
          <p:cNvSpPr/>
          <p:nvPr/>
        </p:nvSpPr>
        <p:spPr>
          <a:xfrm>
            <a:off x="1686960" y="556200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700"/>
                            </p:stCondLst>
                            <p:childTnLst>
                              <p:par>
                                <p:cTn id="306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96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hip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75960" y="1599840"/>
            <a:ext cx="3048120" cy="259056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1434960" y="2476080"/>
            <a:ext cx="3048120" cy="83808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97360" y="1371240"/>
            <a:ext cx="0" cy="15238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895480"/>
            <a:ext cx="26290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8080" y="179784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9000" y="2361600"/>
            <a:ext cx="86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6 y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6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237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238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0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2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4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44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6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6212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81440" y="29710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013280" y="4114800"/>
                <a:ext cx="41432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14400" y="449496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04920" y="5621400"/>
                <a:ext cx="34290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413080" y="57142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95760" y="5688000"/>
            <a:ext cx="32893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25 yd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4360" y="5714280"/>
            <a:ext cx="4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685440" y="2208960"/>
            <a:ext cx="3048120" cy="2590920"/>
          </a:xfrm>
          <a:prstGeom prst="triangle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700200" y="1744200"/>
            <a:ext cx="3047760" cy="838440"/>
          </a:xfrm>
          <a:prstGeom prst="ellipse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98040" y="2146320"/>
            <a:ext cx="30178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17600" y="2147400"/>
            <a:ext cx="0" cy="262908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7920" y="162324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40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5280" y="282492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5 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825720" y="2514600"/>
                <a:ext cx="5318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165560" y="1523880"/>
            <a:ext cx="3112920" cy="1219320"/>
            <a:chOff x="4165560" y="1523880"/>
            <a:chExt cx="3112920" cy="1219320"/>
          </a:xfrm>
        </p:grpSpPr>
        <p:grpSp>
          <p:nvGrpSpPr>
            <p:cNvPr id="267" name=""/>
            <p:cNvGrpSpPr/>
            <p:nvPr/>
          </p:nvGrpSpPr>
          <p:grpSpPr>
            <a:xfrm>
              <a:off x="5308560" y="1523880"/>
              <a:ext cx="1969920" cy="1219320"/>
              <a:chOff x="5308560" y="1523880"/>
              <a:chExt cx="1969920" cy="1219320"/>
            </a:xfrm>
          </p:grpSpPr>
          <p:graphicFrame>
            <p:nvGraphicFramePr>
              <p:cNvPr id="268" name=""/>
              <p:cNvGraphicFramePr/>
              <p:nvPr/>
            </p:nvGraphicFramePr>
            <p:xfrm>
              <a:off x="5308560" y="1523880"/>
              <a:ext cx="433440" cy="1219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08560" y="1523880"/>
                        <a:ext cx="433440" cy="1219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6680160" y="1676520"/>
              <a:ext cx="598320" cy="77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80160" y="1676520"/>
                        <a:ext cx="598320" cy="77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2" name=""/>
              <p:cNvGraphicFramePr/>
              <p:nvPr/>
            </p:nvGraphicFramePr>
            <p:xfrm>
              <a:off x="5689440" y="1600200"/>
              <a:ext cx="1219320" cy="88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689440" y="1600200"/>
                        <a:ext cx="1219320" cy="88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274" name=""/>
            <p:cNvGraphicFramePr/>
            <p:nvPr/>
          </p:nvGraphicFramePr>
          <p:xfrm>
            <a:off x="4165560" y="1828800"/>
            <a:ext cx="115704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65560" y="1828800"/>
                      <a:ext cx="115704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" name=""/>
          <p:cNvSpPr/>
          <p:nvPr/>
        </p:nvSpPr>
        <p:spPr>
          <a:xfrm>
            <a:off x="5613480" y="297108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9832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60480" y="2971080"/>
            <a:ext cx="66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143240" y="4076640"/>
                <a:ext cx="43354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5766120" y="4494960"/>
            <a:ext cx="102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.14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20640" y="449496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10,0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47560" y="5162400"/>
                <a:ext cx="323532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171160" y="5714280"/>
            <a:ext cx="151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31,400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11680" y="5630760"/>
            <a:ext cx="434952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cc"/>
                </a:solidFill>
                <a:latin typeface="Times New Roman"/>
              </a:rPr>
              <a:t>= 10,467 in</a:t>
            </a:r>
            <a:r>
              <a:rPr b="1" lang="en-US" sz="4400" spc="-1" strike="noStrike" baseline="6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4720" y="156060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g 549  10 – 9 #1 – 6, 8 – 1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1928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Find the volume of each figure, to the nearest cubic uni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589720" y="1198440"/>
            <a:ext cx="1616040" cy="1219320"/>
            <a:chOff x="5589720" y="1198440"/>
            <a:chExt cx="1616040" cy="1219320"/>
          </a:xfrm>
        </p:grpSpPr>
        <p:graphicFrame>
          <p:nvGraphicFramePr>
            <p:cNvPr id="289" name=""/>
            <p:cNvGraphicFramePr/>
            <p:nvPr/>
          </p:nvGraphicFramePr>
          <p:xfrm>
            <a:off x="5589720" y="1198440"/>
            <a:ext cx="466560" cy="12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9720" y="1198440"/>
                      <a:ext cx="466560" cy="12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"/>
            <p:cNvGraphicFramePr/>
            <p:nvPr/>
          </p:nvGraphicFramePr>
          <p:xfrm>
            <a:off x="5986440" y="1274760"/>
            <a:ext cx="1219320" cy="88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1274760"/>
                      <a:ext cx="121932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70360" y="2108160"/>
                <a:ext cx="2921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94" name=""/>
          <p:cNvGraphicFramePr/>
          <p:nvPr/>
        </p:nvGraphicFramePr>
        <p:xfrm>
          <a:off x="5376960" y="2489040"/>
          <a:ext cx="121896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6960" y="2489040"/>
                    <a:ext cx="121896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765840" y="2513160"/>
                <a:ext cx="4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797280" y="3406680"/>
                <a:ext cx="414180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965320" y="5175360"/>
                <a:ext cx="202104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253120" y="5613480"/>
                <a:ext cx="1768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7153200" y="5545080"/>
                <a:ext cx="8654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79600" y="1309680"/>
            <a:ext cx="3276360" cy="32767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" y="2604960"/>
            <a:ext cx="3276360" cy="762120"/>
          </a:xfrm>
          <a:prstGeom prst="ellipse">
            <a:avLst/>
          </a:prstGeom>
          <a:solidFill>
            <a:srgbClr val="9999ff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4040" y="2986200"/>
            <a:ext cx="330192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5720" y="2453400"/>
            <a:ext cx="10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0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6040" y="14889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oorbl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fastsna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13:07:38Z</dcterms:created>
  <dc:creator>Don Helms</dc:creator>
  <dc:description/>
  <dc:language>en-US</dc:language>
  <cp:lastModifiedBy>damon.skelton</cp:lastModifiedBy>
  <dcterms:modified xsi:type="dcterms:W3CDTF">2004-03-26T18:55:06Z</dcterms:modified>
  <cp:revision>64</cp:revision>
  <dc:subject/>
  <dc:title>No Slide Title</dc:title>
</cp:coreProperties>
</file>